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80CD-82C6-44EC-9E9A-DAD02C469B0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CE18-5A96-4A3A-97A3-16FAB314EE8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0B28-D861-40E9-8D26-6E09DA3D9A6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8E6E-DE4B-489A-A099-AE7DF6BC74A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BD16-449B-4990-86A9-E9B54119110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CAC0-B397-4D43-9114-D209550647B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6D6C-D4D5-4CD8-B433-02DE4CF7B0C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18BA-0DC6-4C35-B968-5879FADFDA9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5E3F-3E5F-45B4-A995-F47EDA8ADF1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D15B-EBDA-4E7A-87CF-CEBBF9CB111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8425-794A-4FEA-A2B0-7A3721E85BE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0AEC-4A95-4407-B90C-25725BC7929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223F-6819-42F3-8B8A-1ACB0505E79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B9F4-268F-4717-978D-BEBEFE5811E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9CB-1EC3-4C5E-95F0-5B280133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3D1-3B7F-441B-9823-57D646DF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BB7-E249-45C5-9888-17B82F24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3DD-CB20-4FD3-98C8-6416F12F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64F3-052D-42D2-9CA1-B8D2349A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FDD4-E598-40C6-AC92-73ED6D67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7412-013A-4E95-903E-801CF28D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B85F-AB38-434B-85C2-4CAE1CDB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FF50-FE0E-4C94-8FF3-1195B9B2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1401-9FC3-4217-B595-5710CAA1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2D96-1B54-4B30-A3AB-1B98A460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C8A-3120-4454-8DFD-2BCD67CA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8F65-7358-4AB4-999B-A47F672D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DE93-E0E8-451D-A664-908F2B29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BE0D-B22E-4984-A64F-1E78C88F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FB30-C7DB-445D-AE47-3EBC980A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1514-C8FC-42FA-A18F-BB78B427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15D-67D2-4715-B829-3154829D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C4F-B2CF-4D9E-85DC-4E782A5B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C3A-8196-4482-A056-B04D336F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D64-83CE-4D4E-87B2-8A7347EE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69C-1DC9-4BA0-A777-F8F4123C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878-BB08-4E39-909D-5D4D88B9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E41-2FD1-4649-87B2-132CCEEC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16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CFA7-3666-4137-B36A-C61C7FC0AB6E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440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B0D5-5B7B-45B5-925A-41F0E3514104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Supply Chain Integrity in the Australian Food Indu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lobal driver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ssons from National Foo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484360" y="609300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ussel Rankin – Food Innovation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7ADA-9E1E-47CC-B1B6-8444986F373D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280" y="2387160"/>
            <a:ext cx="7993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, duplication and lack of critical mass in R&amp;D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 in delivery of support services by Government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eas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afety and traceability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s in the supply chain used to service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755640" y="40428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sues Facing 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15192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upply Chain Lessons from the National Food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2276280"/>
            <a:ext cx="77202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aracteristics of successful supply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w business opportunity (usually in an international market) that provides an incentive to improve the performance and integrity of the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‘Chain Captain’ who has the capability and means to stimulate changes along the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tted partners who share the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in mapping discipline to ensure integrity and identify priority areas for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gorous project management and reporting to chain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lture that encourages capturing the lessons learnt for further improv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9252-9912-4536-8D9A-E7A1F355DBFD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15192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rivers in Australia’s horticulture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42560" y="2781000"/>
            <a:ext cx="77202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petitiveness, labour shortag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een technologies and sustainabil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dustry loc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od safety and security (integrity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sumer ch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6064-F769-4DCC-976C-785698E06A11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258920" y="558972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ankin R. 2010. “Scoping study to review Mechanisation Automation Robotics and Remote Sensing in Australian horticultur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15192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42560" y="2781000"/>
            <a:ext cx="77202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grity in the supply chain is critical 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petitivenes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ductivi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stainabili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fficien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alue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umer accep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66E6-4453-47CF-BD40-E9E362355163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15192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lobal food industry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42560" y="2276280"/>
            <a:ext cx="77202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lob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lobal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lobalisation of Food Proces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lobalisation of Food Reta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ealth and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ging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unctional foods and substantiation of health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signer foo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1618-ADA3-440E-BDC5-7D0039AC307D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5192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lobal food industry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42560" y="1989000"/>
            <a:ext cx="7720200" cy="42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vailability &amp;efficient use of raw materials, energ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nvironmentally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od versus biof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able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orkforce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o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raceability – bioterrorism, country origin animal diseases, genetically engineered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taminations  and adulteration – microbial, chemic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ano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6BA6-9020-414A-B9D4-8A820B43761E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5192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lobal food industry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42560" y="2276280"/>
            <a:ext cx="77202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verging trends – health, convenience, premium, et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unctional foo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nvironment, social and econom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od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ta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lobal reta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riving down costs below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duced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 for product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6558-2287-4949-B708-5BDC0ED3542B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15192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lobal food industry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42560" y="2276280"/>
            <a:ext cx="77202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cience &amp;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ano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vel process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enomics/bioinfor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w packag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9 billion population in 20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ging population Western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rb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opulation growth in ari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EAE9-B002-4B96-B1A0-9566A126DBB5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" descr=""/>
          <p:cNvPicPr/>
          <p:nvPr/>
        </p:nvPicPr>
        <p:blipFill>
          <a:blip r:embed="rId2"/>
          <a:stretch/>
        </p:blipFill>
        <p:spPr>
          <a:xfrm>
            <a:off x="5456160" y="3695760"/>
            <a:ext cx="3503520" cy="2219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15192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gashock: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od Safety &amp; Bio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42560" y="2276280"/>
            <a:ext cx="42498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ustralian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.4 million cases food poisoning per annu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7,770 hospitalis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25 death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$1.2 billion lost in productivity per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od imports top $9b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C938-97C4-4617-8B4C-86AEA68477C9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3"/>
          <a:stretch/>
        </p:blipFill>
        <p:spPr>
          <a:xfrm>
            <a:off x="6443640" y="2924280"/>
            <a:ext cx="2481120" cy="162396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5"/>
          <p:cNvGrpSpPr/>
          <p:nvPr/>
        </p:nvGrpSpPr>
        <p:grpSpPr>
          <a:xfrm>
            <a:off x="5148360" y="1773360"/>
            <a:ext cx="1765080" cy="2454120"/>
            <a:chOff x="5148360" y="1773360"/>
            <a:chExt cx="1765080" cy="2454120"/>
          </a:xfrm>
        </p:grpSpPr>
        <p:sp>
          <p:nvSpPr>
            <p:cNvPr id="112" name="AutoShape 7"/>
            <p:cNvSpPr/>
            <p:nvPr/>
          </p:nvSpPr>
          <p:spPr>
            <a:xfrm>
              <a:off x="5148360" y="1773360"/>
              <a:ext cx="1760040" cy="24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6" descr=""/>
            <p:cNvPicPr/>
            <p:nvPr/>
          </p:nvPicPr>
          <p:blipFill>
            <a:blip r:embed="rId4"/>
            <a:stretch/>
          </p:blipFill>
          <p:spPr>
            <a:xfrm>
              <a:off x="5148360" y="1773360"/>
              <a:ext cx="1765080" cy="245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TextBox 10"/>
          <p:cNvSpPr/>
          <p:nvPr/>
        </p:nvSpPr>
        <p:spPr>
          <a:xfrm>
            <a:off x="900000" y="6165720"/>
            <a:ext cx="331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AIFST presentation 2009  – Dr Martin Co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ational Food Industry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00000" y="206064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$100 million in new R&amp;D investment through 71 FIG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hart 7" descr=""/>
          <p:cNvPicPr/>
          <p:nvPr/>
        </p:nvPicPr>
        <p:blipFill>
          <a:blip r:embed="rId2"/>
          <a:stretch/>
        </p:blipFill>
        <p:spPr>
          <a:xfrm>
            <a:off x="1468440" y="2633760"/>
            <a:ext cx="55656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ational Food Industry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hart 5" descr=""/>
          <p:cNvPicPr/>
          <p:nvPr/>
        </p:nvPicPr>
        <p:blipFill>
          <a:blip r:embed="rId2"/>
          <a:stretch/>
        </p:blipFill>
        <p:spPr>
          <a:xfrm>
            <a:off x="1689120" y="2700360"/>
            <a:ext cx="5351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26920" y="2276640"/>
            <a:ext cx="75614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ilities associated with stewardship of natural resources to sustain production of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les/production mentality - a lack of strategy and leadership to focus limited resources on long-term profitab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investment rates at about one-third of our international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matching needs with R&amp;D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755640" y="40428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sues Facing 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4:32:22Z</dcterms:created>
  <dc:creator>Russel Rankin</dc:creator>
  <dc:description/>
  <dc:language>en-US</dc:language>
  <cp:lastModifiedBy>Des Bowler</cp:lastModifiedBy>
  <dcterms:modified xsi:type="dcterms:W3CDTF">2011-05-31T05:30:49Z</dcterms:modified>
  <cp:revision>21</cp:revision>
  <dc:subject/>
  <dc:title>Supply Chain Integrity in the Australian Food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71033</vt:lpwstr>
  </property>
</Properties>
</file>