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E7B-F3C7-431D-8673-6F64A30E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B95-FF52-4B8F-9D08-AB5F64DA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A0F-E300-437B-8360-EC00BA75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C9A-B121-4823-A7C0-EB1F2C92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6FCE-3BF4-437D-8A70-2FCF9C9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58BD-2DFF-4163-A927-3A708B3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973B-F0A9-4C63-A419-5AFE5C08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3E4E-38E1-4942-A520-A24BE2EE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35FC-A438-4ED2-95F1-981DDF0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6190-9A1D-4BB5-B548-4C5C82F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019C-81A2-47D9-9916-7CB51CF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68E-BED9-400F-8A9A-9852E174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A2A-3CBC-4B39-93D9-3A4A426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836C-64DE-43D4-A875-7D173546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9498-EFBF-4F58-B5F4-41912CF1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25C4-2061-4561-A199-B36B29D5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431F-BE54-459A-930B-0C400489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BF7-DCBF-4E19-B04C-5EF705F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C3B-DC95-4055-A3C0-5E092CF1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A42-417C-4C88-97B3-347054E2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484-1B1B-4FA9-AE54-D0D2F233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8A9-4551-4E5A-BA59-9F84C4B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AF2-67D7-4397-AC17-B40480F6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E77-C2CB-4318-8FF2-0D73892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896-3C21-4803-BDE7-33BCA2FE908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6E23-B742-4C97-8C0F-45B373C7A4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itmedia.com.a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ccecff"/>
                </a:solidFill>
                <a:latin typeface="Arial"/>
              </a:rPr>
              <a:t>What is the value proposition of food integrity programs to individual organisations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s B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agement for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initmedia.com.au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May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What are the drivers for food integrity programs?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gulatory compli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rket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duct differen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8" descr="Consumper_care_sip"/>
          <p:cNvPicPr/>
          <p:nvPr/>
        </p:nvPicPr>
        <p:blipFill>
          <a:blip r:embed="rId1"/>
          <a:stretch/>
        </p:blipFill>
        <p:spPr>
          <a:xfrm>
            <a:off x="1187280" y="3429000"/>
            <a:ext cx="66535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What are the cost benefits for food integrity programs?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e market share or high pr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modity mark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turn on invest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9" descr="costcomparisons_sip"/>
          <p:cNvPicPr/>
          <p:nvPr/>
        </p:nvPicPr>
        <p:blipFill>
          <a:blip r:embed="rId1"/>
          <a:stretch/>
        </p:blipFill>
        <p:spPr>
          <a:xfrm>
            <a:off x="1187280" y="3429000"/>
            <a:ext cx="66535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What are the risks for additional food integrity programs?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2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o can use the product integrity program informa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2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uld this information be used against me if something goes wro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2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ffffff"/>
                </a:solidFill>
                <a:latin typeface="Arial"/>
              </a:rPr>
              <a:t>Who will get the bl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What is the take home message?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2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termine the cost benefit on a product and market bas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32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fe guards to protect the compan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4:25:53Z</dcterms:created>
  <dc:creator>Des Bowler</dc:creator>
  <dc:description/>
  <dc:language>en-US</dc:language>
  <cp:lastModifiedBy>Des Bowler</cp:lastModifiedBy>
  <dcterms:modified xsi:type="dcterms:W3CDTF">2011-05-31T05:30:24Z</dcterms:modified>
  <cp:revision>7</cp:revision>
  <dc:subject/>
  <dc:title>What is the value proposition to individual organisations of food integrity programs?</dc:title>
</cp:coreProperties>
</file>